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BC71-28F4-45F5-BBA9-BD0A6C73E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17CF-9E56-4071-9E97-2B6DB48F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1AC7-9478-4AB4-9514-35FBCECBE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BE66-1B71-47AB-BDA5-EED35A030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3C10E-089E-45DD-9FBB-6BEFD511D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4C63-B708-4A3E-B841-C8636D0F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30FFC-4B45-440D-9EEC-69E2F031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5A09-72ED-4837-9E91-91D6661D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139D-9674-46EA-995D-3B04425D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0E95D-5258-40DA-BF57-F0EEF22F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9BFB-CE45-4075-A027-5C299BE6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A9AC-CDE7-4899-AF70-81BF4F67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D900-1AD3-4DFE-B3AF-723126D5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54EF-CB2F-486A-9F32-B363AEA0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D531-3351-4F70-9F42-C6482539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4363D-E3E5-49F6-9705-97871C9CE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B4BD-459F-43C2-BAA5-BC38078D0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33F22-625B-4227-A7E0-5C61D99F0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C20AC-4DC7-4351-89B2-D0093C4B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5A7DA-62E5-4345-AE47-C9289698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E3D39-1F88-43C7-9B23-117B28B4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B07D3-479C-4E90-94C5-68D273A7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73FE-2BB1-4097-B676-713BCE5A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3D0C3-0590-4BE4-8D73-CBB911D3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77DB2-880E-4A5E-A4EF-4F7CEABF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1CF0D-26E8-4CCB-9E13-1581ACA8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092A2-EA14-4A7A-95D9-F6A2E7D3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449EF-4D52-4179-B21F-C0182857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809EE-FFEE-4D72-9BA3-955C9A0D9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6EB38-2F96-444B-8510-5668D37C2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F34D3-376E-4ABD-9B8F-3FB9EE2E6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49DB8-2E1E-4786-9BA8-DE2CEAB8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92FC2-E9F0-4144-8BB4-3B1315F0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F19A-0DA6-4ABA-8162-13AABFB5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9AA7B-9CAE-4DA6-8B42-F7B9246D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0AFA6-BAC4-4F8A-94BD-165D2806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51236-9897-4FFC-A090-E435605D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ED3A4-5DA4-4D1D-BDFE-37B33400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1EE3A-4C74-4F59-9FCE-DABDA6A7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D37C9-004F-4885-A6F4-0D671383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778B4-DDF0-40A5-86A8-694FDA13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BAE00-2CEB-40C8-BD66-81E07C1C0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AC684-1512-479E-A4DC-EB6CFC436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59923-A3BE-41CA-BF29-11FD8AFE6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9C96-699A-4A45-AB48-643756B1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648B1-E3A8-4564-A8EF-609D2642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9CA3D-F11A-4986-B30F-489C7CBC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30577-182F-49A0-BDEF-AAFFF6B3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1CF64-5BF3-40FC-A82A-60050447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3C245-5D6D-40BC-B7C9-4EBC3FDA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164E6-8C24-4EF8-ADBA-72B1993B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F7F60-E454-4F2D-888F-9FC37E23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32E03-DA89-4E2A-AE75-D06E13A8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8CD71-DB2B-4098-A2CC-28C734F0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4861E-F330-42AA-B77E-95C2A46E6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F9A4-1C62-43E6-92DD-04081564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5C9E0-3D64-4992-9A58-83AA20A3C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3814D-291D-4E65-8096-71A68D58B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C65EE-627A-4C09-8F2A-7929260E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C5345-A859-4D1E-87BC-CCD2BF97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E13B4-355F-4398-BD27-30891AFE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589A3-98A9-4D20-A652-67F8F5511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04A2D-EC5B-4017-9C1C-CD94871B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2884A-198E-4CF7-95B3-6FF3D912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A9FD0-2CF9-43CD-AA7F-DE1CC099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6FD21-F9ED-4050-B5C7-7DBF7B30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312D-B1DB-4709-9CE1-30237AFA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E100B-DE94-4989-A199-7F275A62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61BF9-829F-4961-8262-15308980B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F2A73-4A1C-4A31-911F-387FA0928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740BF-0A62-4E53-95C5-FB7175AAF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FEB2A-D005-4CDC-9791-7B44157A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85DFD-BC5A-438D-9D90-3D59E448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E52D0-592A-48F2-906C-85B1955A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B1387-9E52-45DE-A384-46FFFAFE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55B07-95D0-4C71-A577-AA95358A9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6291C-81F9-47DB-85F1-C421B401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5576-FEF7-4259-9B37-9BC37CF2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E9095-D51A-453C-B2FD-877D7A56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B052D-567B-4AAB-BACE-9A5F1B09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28F2C-0901-4AA8-9D52-C8110FC7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BC2F5-A586-4826-A258-C9D755EBD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F9EDE-30A1-4204-9C68-F3740A757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8BEC-248E-4CB5-A9FB-571C9380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BCFA-B988-4DBC-B725-5FD30B70205B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89E4-2AD9-447B-BEB6-5C0BBBE690B6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28E5-AA16-4301-B623-D712048ADFCE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01B8-3530-46BC-985E-0922CC3D98B4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4F14-54A8-4B9C-B81F-FA75EC900CAF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E2C6-9E0E-4233-9377-5373C2DCC78F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7689-AD6E-4747-8115-AD2352CBD0BE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йкал- бесценный дар природы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.Твардовский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 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тор: Кораблёв Никита Сергеевич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ащийся 9Г класс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БОУ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№87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Times New Roman"/>
              </a:rPr>
              <a:t>Происхождение Байкала до сих пор вызывает научные споры. Возраст озера учёные традиционно определяют в 25—35 млн лет. Этот факт также делает Байкал уникальным природным объектом, так как большинство озёр, особенно ледникового происхождения, живут в среднем 10—15 тыс. лет, а потом заполняются илистыми осадками и заболачиваются.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Times New Roman"/>
              </a:rPr>
              <a:t>Однако существует также версия о молодости Байкала, выдвинутая доктором геолого-минералогических наукА. В. Татариновым в 2009 году, которая получила косвенные подтверждения во время второго этапа экспедиции «Миров» на Байкале. В частности, деятельность грязевых вулканов на дне Байкала позволяет учёным предполагать, что современной береговой линии озера всего лишь 8 тыс. лет, а глубоководной части — 150 тыс. лет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Происхождение озер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871560" y="2674440"/>
            <a:ext cx="7408800" cy="345132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Озеро Байкал является уникальной экологической системой, правовые основы охраны которой регулируются принятым в 1999 году Федеральным законом «Об охране озера Байкал». В соответствии с данным федеральным законом на Байкальской природной территории установлен особый режим хозяйственной и иной деятельности, а утверждение перечня запрещённых видов деятельности делегировано Правительству Российской Федерации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Экология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Район южного побережья Байкала, где мы путешествовали, имеет отличную перспективу развития туризма. Этому способствует мягкий климат, близость транспортных путей, близость областного центра (Иркутск) и, главное, живописная природа, необыкновенной красоты ландшафты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871560" y="2674440"/>
            <a:ext cx="7408800" cy="345132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871560" y="2674440"/>
            <a:ext cx="7408800" cy="34513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Предпосылки путешеств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Отец много рассказывал мне об озере Байкал, вспоминая  своё детство, когда он жил в тех краях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Летом нынешнего года появилась возможность побывать на берегах этого уникального памятника природы, совершая семейное автомобильное путешествие от Северска до населённого пункта Листвянка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871560" y="2674440"/>
            <a:ext cx="7408800" cy="34513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2"/>
          <a:stretch/>
        </p:blipFill>
        <p:spPr>
          <a:xfrm>
            <a:off x="0" y="-46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Запасы воды в Байкале гигантские — 23 615,39 км³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По данным исследований XIX века в Байкал впадало 336 рек и ручьёв, это число учитывало только постоянные притоки. Более современных данных по данному вопросу нет, однако иногда приводятся цифры в 544 или 1123 (которые приведены в результате подсчёта распадков, а не постоянных водотоков). Также считается, что вследствие антропогенного воздействия и изменения климата на Байкале с XIX века по современное время могло пропасть порядка 150 водотоков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Общие сведе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Озеро Байкал находится на юге Восточной Сибири. В форме рождающегося полумесяца Байкал вытянулся с юго-запада на северо-восток. Длина озера — 636 км, наибольшая ширина в центральной части — 81 км, минимальная ширина напротив дельты Селенги — 27 км. Расположен Байкал на высоте 455 м над уровнем моря, длина береговой линии — около 2000 км. Более половины длины береговой линии озера находится под охраной.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В Байкал впадает около 300 рек и ручьев, при этом половину объема воды, поступающей в озеро, приносит река Селенга. Из Байкала вытекает единственная река — Ангара. На озере — около 20 островов, самый крупный из которых — </a:t>
            </a:r>
            <a:r>
              <a:rPr b="0" lang="ru-RU" sz="1900" spc="-1" strike="noStrike" u="sng">
                <a:solidFill>
                  <a:srgbClr val="073e87"/>
                </a:solidFill>
                <a:uFillTx/>
                <a:latin typeface="Candara"/>
              </a:rPr>
              <a:t>Ольхон</a:t>
            </a: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Что называется </a:t>
            </a:r>
            <a:r>
              <a:rPr b="0" lang="ru-RU" sz="1900" spc="-1" strike="noStrike" u="sng">
                <a:solidFill>
                  <a:srgbClr val="073e87"/>
                </a:solidFill>
                <a:uFillTx/>
                <a:latin typeface="Candara"/>
              </a:rPr>
              <a:t>Малым морем на Байкале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Географическое положени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871560" y="2674440"/>
            <a:ext cx="7408800" cy="34513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Размышления о Байкал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По дороге на Байкал я размышлял о том, какие исторические события происходили здесь, как шло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освоение территории Байкальской горной страны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окружающей озеро, сколько дал этот край людям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сколько пользы принёс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Эти вопросы я обсуждал с папой во время поездк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871560" y="2674440"/>
            <a:ext cx="7408800" cy="345132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2"/>
          <a:stretch/>
        </p:blipFill>
        <p:spPr>
          <a:xfrm>
            <a:off x="0" y="-34920"/>
            <a:ext cx="9144000" cy="68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Times New Roman"/>
              </a:rPr>
              <a:t>Если говорить об освоении Байкала, то можно сказать, что Можно выделить несколько основных этапов освоения озера Байкал.  Первый из них  связан с экспедициями землепроходцев и казацких отрядов. Он охватывает период с середины 17  по начало 18 века. Второй этап связан с  экспедициями Императорской академии наук. Этот период относится к   началу 18 по середину 19 века. Третий этап характеризуется целенаправленным комплексным изучением края, начиная с середины 19 века по 1917 год. И далее наступает новый период интенсивного изучения и промышленного использования озера Байкал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История Освое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8T14:06:45Z</dcterms:created>
  <dc:creator>User</dc:creator>
  <dc:description/>
  <dc:language>en-US</dc:language>
  <cp:lastModifiedBy>WinXP</cp:lastModifiedBy>
  <dcterms:modified xsi:type="dcterms:W3CDTF">2015-11-06T05:42:28Z</dcterms:modified>
  <cp:revision>6</cp:revision>
  <dc:subject/>
  <dc:title>Природные богатства Великого Байкала</dc:title>
</cp:coreProperties>
</file>