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602-AD7F-4407-B095-9787F587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9D2B-0124-4A3C-992B-74D946F4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254C-57FC-4414-952A-F34FF640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4A1B-76BB-4509-A8B3-426CDB28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533D-DB54-4DFC-A7E7-5D202F83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7EB4-E5C9-431B-A12C-3D2A82C1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BF0-3BEA-43CD-94EB-F973CE61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C0B-1FBE-4665-BB2C-B12D921C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3DB-E991-4253-82C6-749B49B6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827B-6430-44DE-B6B2-21323ADA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97A5-A446-4D1B-BAAB-4EF163E6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7D9-5323-429E-88A8-D1C297FD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A2D3-63CC-41D2-A937-8BCC6ADDFC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suntime.com.ua/img/content/sight/188/wide_89585043901.jpg"/>
          <p:cNvPicPr/>
          <p:nvPr/>
        </p:nvPicPr>
        <p:blipFill>
          <a:blip r:embed="rId1"/>
          <a:srcRect l="0" t="0" r="35992" b="0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1928880" y="476280"/>
            <a:ext cx="64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чером посетили театр им. Пушк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suntime.com.ua/img/content/city/2/wide_46317930930.jpg"/>
          <p:cNvPicPr/>
          <p:nvPr/>
        </p:nvPicPr>
        <p:blipFill>
          <a:blip r:embed="rId1"/>
          <a:srcRect l="16190" t="0" r="2246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3132000" y="62064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следующий день  посетили знаменитую Алушт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suntime.com.ua/img/content/sight/2458/wide_25606688011.jpg"/>
          <p:cNvPicPr/>
          <p:nvPr/>
        </p:nvPicPr>
        <p:blipFill>
          <a:blip r:embed="rId1"/>
          <a:srcRect l="38653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 rot="21406800">
            <a:off x="217080" y="491472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разу ? В дельфинарий! Это, наверное, самое приятное моё воспоминание!  Дельфины,  прямо- как люд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suntime.com.ua/img/content/sight/372/wide_41850189950.jpg"/>
          <p:cNvPicPr/>
          <p:nvPr/>
        </p:nvPicPr>
        <p:blipFill>
          <a:blip r:embed="rId1"/>
          <a:srcRect l="17628" t="0" r="21071" b="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79280" y="260280"/>
            <a:ext cx="40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тем направились в аквапарк «Миндальная рощ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suntime.com.ua/img/content/sight/460/wide_66062266141.jpg"/>
          <p:cNvPicPr/>
          <p:nvPr/>
        </p:nvPicPr>
        <p:blipFill>
          <a:blip r:embed="rId1"/>
          <a:srcRect l="12075" t="0" r="24404" b="0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500040" y="357120"/>
            <a:ext cx="40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о парку «Крым в миниатюре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yugopolis.ru/data/mediadb/2383/0000/0363/36352.jpg"/>
          <p:cNvPicPr/>
          <p:nvPr/>
        </p:nvPicPr>
        <p:blipFill>
          <a:blip r:embed="rId1"/>
          <a:stretch/>
        </p:blipFill>
        <p:spPr>
          <a:xfrm>
            <a:off x="-757080" y="0"/>
            <a:ext cx="102931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-612720" y="4941720"/>
            <a:ext cx="946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же через 4 часа мы были в Краснодаре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езжать нам очень не хотелось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з Пашковского аэропорта мы должны были вылететь в Москву, но теперь мой трепет перед столицей сошёл на нет – интуитивно мне казалось, что там всё иначе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За 2 дня, проведённых в Крыму, я влюбилась в этот край и безусловно хочу вернуться сюда ещё раз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тернет-источник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250920" y="1341360"/>
            <a:ext cx="842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ntime.com.u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yandex.ru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vk.co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ru.wikipedia.or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om.drom.ru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rymology.info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suntime.com.ua/img/content/city/2/wide_14542633101.jpg"/>
          <p:cNvPicPr/>
          <p:nvPr/>
        </p:nvPicPr>
        <p:blipFill>
          <a:blip r:embed="rId1"/>
          <a:srcRect l="14979" t="0" r="2367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11280" y="785520"/>
            <a:ext cx="7772400" cy="1857240"/>
          </a:xfrm>
          <a:prstGeom prst="rect">
            <a:avLst/>
          </a:prstGeom>
          <a:solidFill>
            <a:srgbClr val="e46c0a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МОЁ ПУТЕШЕСТВИЕ В КРЫ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ross-tur.ru/wp-content/uploads/2014/08/samolet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4500720" y="3933720"/>
            <a:ext cx="439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NSimSun"/>
              </a:rPr>
              <a:t>Этим летом  вместе с родителями я посетила Крым.  Это  волшебный край! Здесь прекрасная природа, древние дворцы и замки, от вида которых захватывает дух,  добрые и улыбчивые люд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camp.pp.ua/images/image_pereprava/pereprava_03.jpg"/>
          <p:cNvPicPr/>
          <p:nvPr/>
        </p:nvPicPr>
        <p:blipFill>
          <a:blip r:embed="rId1"/>
          <a:stretch/>
        </p:blipFill>
        <p:spPr>
          <a:xfrm>
            <a:off x="-35712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-285840" y="0"/>
            <a:ext cx="61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портная перепра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4"/>
          <p:cNvSpPr/>
          <p:nvPr/>
        </p:nvSpPr>
        <p:spPr>
          <a:xfrm flipV="1" rot="10800000">
            <a:off x="4500360" y="4070160"/>
            <a:ext cx="407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ак только наш самолет приземлился, мы с родителями   отправились к переправе. Через некоторое время,  паром доставил нас на  берег Керченского проли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http://suntime.com.ua/img/content/sight/102/wide_3237431491.jpg"/>
          <p:cNvPicPr/>
          <p:nvPr/>
        </p:nvPicPr>
        <p:blipFill>
          <a:blip r:embed="rId1"/>
          <a:srcRect l="31413" t="0" r="724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2266560" y="260280"/>
            <a:ext cx="35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вековый замок гор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poradumo.com.ua/wp-content/uploads/2015/07/9ce8746b611f2fd2c45f3e55ed17bc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179280" y="549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пость «Ени-Кале»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suntime.com.ua/img/content/sight/268/wide_88105201300.jpg"/>
          <p:cNvPicPr/>
          <p:nvPr/>
        </p:nvPicPr>
        <p:blipFill>
          <a:blip r:embed="rId1"/>
          <a:srcRect l="14359" t="0" r="168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250920" y="40464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ковь Иоанна Предте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hwww.tour.crimea.com/sites/default/files/styles/flexslider_full/public/field/resorts/vid_na_gorod.jpg?itok=zsyOCoqp"/>
          <p:cNvPicPr/>
          <p:nvPr/>
        </p:nvPicPr>
        <p:blipFill>
          <a:blip r:embed="rId1"/>
          <a:srcRect l="16667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324000" y="400536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ый порт го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suntime.com.ua/img/content/sight/2537/wide_41561792652.jpg"/>
          <p:cNvPicPr/>
          <p:nvPr/>
        </p:nvPicPr>
        <p:blipFill>
          <a:blip r:embed="rId1"/>
          <a:srcRect l="0" t="0" r="3865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390960" y="5229360"/>
            <a:ext cx="25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 пля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5T17:54:47Z</dcterms:created>
  <dc:creator>user</dc:creator>
  <dc:description/>
  <dc:language>en-US</dc:language>
  <cp:lastModifiedBy>Home</cp:lastModifiedBy>
  <dcterms:modified xsi:type="dcterms:W3CDTF">2015-11-04T18:06:53Z</dcterms:modified>
  <cp:revision>39</cp:revision>
  <dc:subject/>
  <dc:title>Слайд 1</dc:title>
</cp:coreProperties>
</file>