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73200"/>
            <a:ext cx="456552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02E79-D53E-47C4-BCCD-FE112F78C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0989D-909D-45F4-9C7D-99EBB955B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A3AD7-BD51-433C-A5EA-61984F359A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33418-BD78-4F32-9E0D-2B357F453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CFF87-F5A3-4907-A632-AD61CE307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34DED-9E87-4B1F-B562-FE2F4FDB7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AE7E3-AA38-49FF-975F-524C0A5CE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60409-72F0-4DBD-9552-0D7BD15CE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C821C-84D5-4E55-98A3-41B7B8655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D579F-0408-43DB-9309-6B934784F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C3D6D-A636-467E-BDF3-84232FD25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ABD9A-FFE0-4E00-8685-31D80412E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E5227-0A43-44C4-8AC8-8CCB94180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0867F-D551-4EE2-A494-A2BC73F35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054F7-8D54-4AF3-8697-932957E20A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1BAE0-A673-4427-9AF8-9B9DDEDE3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1A3EE-53D6-4E07-BAE1-141941050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56CD9-4630-489C-A1D9-5DDBC4357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B43F4-9F87-4327-92A8-E70449439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6E771-F63F-464D-8EB4-2B5B49111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4DC6C-4FF0-4B83-817F-9AF345C16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DA3C7-5D46-455E-84B3-8A4B3F943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7320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E4BCE-4392-419B-8E1A-F163BA76C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05FB4-3024-490D-8809-FAA72AB53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E809E-8052-41C5-9288-01FAB3AF9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DD067-8DF4-472F-A204-41C19D164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909FD-14D9-4C6F-99B9-7658EA99D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8C68A-8FF7-4F55-8D5B-1055525C4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EABD7-737F-4268-B3F0-846C43C35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65865-1A4E-4CAE-848B-1EE3807B3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3A2-532A-425A-8E0E-2DD4BDDC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E25-0590-4152-9B53-FF930D1A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4F7-008A-45EC-B932-F16A5EEF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15B-5E71-4E1A-ADE8-982C81F5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F86-A5C0-4BC2-BB62-6F17BA5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509-D03A-4271-9BF9-E368B227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C7E-B1FC-4098-8CCA-DC9B8BE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83D-388D-416E-82D3-09DF3862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883-C07F-4FA4-9AE0-6873D410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D66-F664-48C3-8859-92AED0E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969-8E97-4025-9C06-03AB475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EC7-2473-44BD-BCD9-371348E3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9D360-91E8-4A05-97D6-D2E05F23E8B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16A2E-9E2F-4FBB-9254-82AA9C0FDEB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36440"/>
            <a:ext cx="8229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ьразовательное учреждение «Северский лице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 algn="ct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 Сибири 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 algn="ctr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лмачева Мария 8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лисеева Полина 8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609480" y="53964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720720" y="54756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539640" y="179280"/>
            <a:ext cx="7920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2"/>
          <a:stretch/>
        </p:blipFill>
        <p:spPr>
          <a:xfrm>
            <a:off x="1992240" y="314280"/>
            <a:ext cx="5143680" cy="63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2"/>
          <a:stretch/>
        </p:blipFill>
        <p:spPr>
          <a:xfrm>
            <a:off x="2160720" y="343080"/>
            <a:ext cx="5143320" cy="61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2057400" y="360360"/>
            <a:ext cx="514368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2160720" y="179280"/>
            <a:ext cx="514332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900000" y="72072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539640" y="366840"/>
            <a:ext cx="8099640" cy="59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969840" y="54756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539640" y="627120"/>
            <a:ext cx="6667560" cy="3333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3240000" y="3060720"/>
            <a:ext cx="558000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720720" y="366840"/>
            <a:ext cx="767088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539640" y="503280"/>
            <a:ext cx="809964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1992240" y="314280"/>
            <a:ext cx="5143680" cy="63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789120" y="539640"/>
            <a:ext cx="767052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609480" y="366840"/>
            <a:ext cx="8031240" cy="59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430200" y="539640"/>
            <a:ext cx="821052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728640" y="539640"/>
            <a:ext cx="7912080" cy="608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249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ская раб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графии и впечатления с поездки в г.Санкт-Петербур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ресурс «Википед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2ED0A-A288-4283-968B-82A4C056FFB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28640" y="35712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789120" y="539640"/>
            <a:ext cx="7670520" cy="57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1992240" y="360360"/>
            <a:ext cx="5143680" cy="630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720720" y="360360"/>
            <a:ext cx="7893000" cy="611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539640" y="654120"/>
            <a:ext cx="79200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2160720" y="539640"/>
            <a:ext cx="514332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625320" y="598320"/>
            <a:ext cx="8013960" cy="570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3:23:58Z</dcterms:created>
  <dc:creator>Начальная школа</dc:creator>
  <dc:description/>
  <dc:language>en-US</dc:language>
  <cp:lastModifiedBy>Вера Васильевна</cp:lastModifiedBy>
  <dcterms:modified xsi:type="dcterms:W3CDTF">2015-11-09T10:20:5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