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4.png" ContentType="image/png"/>
  <Override PartName="/ppt/media/image4.png" ContentType="image/png"/>
  <Override PartName="/ppt/media/image12.jpeg" ContentType="image/jpeg"/>
  <Override PartName="/ppt/media/image28.jpeg" ContentType="image/jpeg"/>
  <Override PartName="/ppt/media/image7.jpeg" ContentType="image/jpeg"/>
  <Override PartName="/ppt/media/image1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2D7-ED4B-45A3-8A63-BB5F97F0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DA4-7E9E-47A0-8F81-7D70A329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859-2F4B-42C6-8B7D-FB4ED5FF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CEC-CB74-4D3D-9073-3A60DDAA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F2E3-05F2-4A62-A81B-A34C2FD5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564-2768-45C9-B916-CD59EA4B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AFA9-0134-422F-AFAD-54E36BEB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5F15-0EAC-4E57-9F79-08FAF302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A776-FC3B-4E04-895C-AF745125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E26D-B297-49A3-9B4C-C28EB1DB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9838-1D19-4529-949F-AE9D7BE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3CD-B291-4C59-B284-2001499E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1550-3D0E-4A65-B0F2-B1855E49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5FDB-AA9B-47FD-B0BA-251D25FD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4866-0F8B-4313-9B54-64BE9FDA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8505-B732-4C70-86D5-E89E2396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1676-7B0E-4983-A42E-AFCC7169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8E6-12F1-4E37-8DCF-93BF711E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751-0DA1-48B6-8BF5-BC5B3DB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0F7-2A35-4292-B7EC-13189EC5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AF4-422C-44A4-8708-A82530EA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7D6-19F6-432A-8FE6-221B53AE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A1A-2AB4-40FC-9ECB-2F06D430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6D0-132E-4E75-A865-A3F1C32F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E7DCE-8190-4D80-B2ED-0793155EF03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dcef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152280" y="1600200"/>
            <a:ext cx="8979120" cy="4711680"/>
            <a:chOff x="152280" y="1600200"/>
            <a:chExt cx="8979120" cy="4711680"/>
          </a:xfrm>
        </p:grpSpPr>
        <p:sp>
          <p:nvSpPr>
            <p:cNvPr id="5" name="Freeform 6"/>
            <p:cNvSpPr/>
            <p:nvPr/>
          </p:nvSpPr>
          <p:spPr>
            <a:xfrm>
              <a:off x="317520" y="1809720"/>
              <a:ext cx="2631960" cy="430704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33280" y="2222640"/>
              <a:ext cx="58680" cy="489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874800" y="2495520"/>
              <a:ext cx="68040" cy="586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2506680" y="2620800"/>
              <a:ext cx="192240" cy="15264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1517760" y="3476520"/>
              <a:ext cx="317520" cy="1746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789200" y="3619440"/>
              <a:ext cx="193680" cy="777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006640" y="367668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124000" y="3683160"/>
              <a:ext cx="12600" cy="428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743120" y="1798560"/>
              <a:ext cx="363600" cy="1825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909800" y="1706400"/>
              <a:ext cx="291960" cy="120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2336760" y="1863720"/>
              <a:ext cx="473040" cy="4111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333520" y="1681200"/>
              <a:ext cx="79560" cy="698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2157480" y="1836720"/>
              <a:ext cx="122040" cy="810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2300400" y="1854360"/>
              <a:ext cx="100080" cy="4284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2239920" y="1773360"/>
              <a:ext cx="120600" cy="63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2182680" y="1701720"/>
              <a:ext cx="79560" cy="414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2421000" y="1709640"/>
              <a:ext cx="225360" cy="1587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152280" y="2255760"/>
              <a:ext cx="39960" cy="208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1731960" y="3394080"/>
              <a:ext cx="2052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1738440" y="3449520"/>
              <a:ext cx="2052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2163600" y="3743280"/>
              <a:ext cx="190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>
              <a:off x="2422440" y="266544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8"/>
            <p:cNvSpPr/>
            <p:nvPr/>
          </p:nvSpPr>
          <p:spPr>
            <a:xfrm>
              <a:off x="2214720" y="220824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29"/>
            <p:cNvSpPr/>
            <p:nvPr/>
          </p:nvSpPr>
          <p:spPr>
            <a:xfrm>
              <a:off x="2349360" y="180972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0"/>
            <p:cNvSpPr/>
            <p:nvPr/>
          </p:nvSpPr>
          <p:spPr>
            <a:xfrm>
              <a:off x="2481120" y="2049480"/>
              <a:ext cx="6696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>
              <a:off x="2514600" y="1600200"/>
              <a:ext cx="1440000" cy="758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>
              <a:off x="2959200" y="2009880"/>
              <a:ext cx="68040" cy="41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3549600" y="2157480"/>
              <a:ext cx="254160" cy="108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3760920" y="1793880"/>
              <a:ext cx="68040" cy="414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4322880" y="1722600"/>
              <a:ext cx="309600" cy="126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4524480" y="1795320"/>
              <a:ext cx="871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>
              <a:off x="3914640" y="2401920"/>
              <a:ext cx="214560" cy="2808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>
              <a:off x="3801960" y="2509920"/>
              <a:ext cx="130320" cy="13788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>
              <a:off x="7321680" y="5056200"/>
              <a:ext cx="976320" cy="109044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>
              <a:off x="7629480" y="4475160"/>
              <a:ext cx="652680" cy="4557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>
              <a:off x="7647120" y="4478400"/>
              <a:ext cx="636480" cy="4572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8128080" y="6195960"/>
              <a:ext cx="81000" cy="11592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>
              <a:off x="8410680" y="5996160"/>
              <a:ext cx="330120" cy="1760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4"/>
            <p:cNvSpPr/>
            <p:nvPr/>
          </p:nvSpPr>
          <p:spPr>
            <a:xfrm>
              <a:off x="8766000" y="5884920"/>
              <a:ext cx="204840" cy="1918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45"/>
            <p:cNvSpPr/>
            <p:nvPr/>
          </p:nvSpPr>
          <p:spPr>
            <a:xfrm>
              <a:off x="8880480" y="5792760"/>
              <a:ext cx="65160" cy="460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5284800" y="4708440"/>
              <a:ext cx="243000" cy="435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6394320" y="4014720"/>
              <a:ext cx="88920" cy="12240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7089840" y="4160880"/>
              <a:ext cx="218880" cy="3952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6892920" y="4033800"/>
              <a:ext cx="138240" cy="29196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6996240" y="4278240"/>
              <a:ext cx="69840" cy="2793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089840" y="4583160"/>
              <a:ext cx="122040" cy="108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307280" y="4371840"/>
              <a:ext cx="1602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3"/>
            <p:cNvSpPr/>
            <p:nvPr/>
          </p:nvSpPr>
          <p:spPr>
            <a:xfrm>
              <a:off x="7248600" y="3440160"/>
              <a:ext cx="33120" cy="1461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277040" y="3706920"/>
              <a:ext cx="114480" cy="24912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5"/>
            <p:cNvSpPr/>
            <p:nvPr/>
          </p:nvSpPr>
          <p:spPr>
            <a:xfrm>
              <a:off x="7367760" y="4052880"/>
              <a:ext cx="120600" cy="163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56"/>
            <p:cNvSpPr/>
            <p:nvPr/>
          </p:nvSpPr>
          <p:spPr>
            <a:xfrm>
              <a:off x="7526160" y="4367160"/>
              <a:ext cx="47880" cy="9684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57"/>
            <p:cNvSpPr/>
            <p:nvPr/>
          </p:nvSpPr>
          <p:spPr>
            <a:xfrm>
              <a:off x="7493040" y="4549680"/>
              <a:ext cx="2376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58"/>
            <p:cNvSpPr/>
            <p:nvPr/>
          </p:nvSpPr>
          <p:spPr>
            <a:xfrm>
              <a:off x="7548480" y="4529160"/>
              <a:ext cx="81000" cy="698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59"/>
            <p:cNvSpPr/>
            <p:nvPr/>
          </p:nvSpPr>
          <p:spPr>
            <a:xfrm>
              <a:off x="7693200" y="4684680"/>
              <a:ext cx="37800" cy="60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60"/>
            <p:cNvSpPr/>
            <p:nvPr/>
          </p:nvSpPr>
          <p:spPr>
            <a:xfrm>
              <a:off x="8250120" y="4591080"/>
              <a:ext cx="82800" cy="921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61"/>
            <p:cNvSpPr/>
            <p:nvPr/>
          </p:nvSpPr>
          <p:spPr>
            <a:xfrm>
              <a:off x="7421400" y="4722840"/>
              <a:ext cx="82800" cy="98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2"/>
            <p:cNvSpPr/>
            <p:nvPr/>
          </p:nvSpPr>
          <p:spPr>
            <a:xfrm>
              <a:off x="7319880" y="4765680"/>
              <a:ext cx="54000" cy="4752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63"/>
            <p:cNvSpPr/>
            <p:nvPr/>
          </p:nvSpPr>
          <p:spPr>
            <a:xfrm>
              <a:off x="7275600" y="4700520"/>
              <a:ext cx="38160" cy="5724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4"/>
            <p:cNvSpPr/>
            <p:nvPr/>
          </p:nvSpPr>
          <p:spPr>
            <a:xfrm>
              <a:off x="7346880" y="4724280"/>
              <a:ext cx="58680" cy="414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5"/>
            <p:cNvSpPr/>
            <p:nvPr/>
          </p:nvSpPr>
          <p:spPr>
            <a:xfrm>
              <a:off x="7243920" y="3984480"/>
              <a:ext cx="42840" cy="10980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6"/>
            <p:cNvSpPr/>
            <p:nvPr/>
          </p:nvSpPr>
          <p:spPr>
            <a:xfrm>
              <a:off x="7350120" y="3963960"/>
              <a:ext cx="27000" cy="10944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67"/>
            <p:cNvSpPr/>
            <p:nvPr/>
          </p:nvSpPr>
          <p:spPr>
            <a:xfrm>
              <a:off x="7396200" y="3925800"/>
              <a:ext cx="7920" cy="4284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68"/>
            <p:cNvSpPr/>
            <p:nvPr/>
          </p:nvSpPr>
          <p:spPr>
            <a:xfrm>
              <a:off x="7416720" y="3952800"/>
              <a:ext cx="31680" cy="9360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69"/>
            <p:cNvSpPr/>
            <p:nvPr/>
          </p:nvSpPr>
          <p:spPr>
            <a:xfrm>
              <a:off x="6856560" y="4106880"/>
              <a:ext cx="12600" cy="4752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70"/>
            <p:cNvSpPr/>
            <p:nvPr/>
          </p:nvSpPr>
          <p:spPr>
            <a:xfrm>
              <a:off x="6835680" y="405612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71"/>
            <p:cNvSpPr/>
            <p:nvPr/>
          </p:nvSpPr>
          <p:spPr>
            <a:xfrm>
              <a:off x="6826320" y="4017960"/>
              <a:ext cx="12600" cy="176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72"/>
            <p:cNvSpPr/>
            <p:nvPr/>
          </p:nvSpPr>
          <p:spPr>
            <a:xfrm>
              <a:off x="6802560" y="3925800"/>
              <a:ext cx="1116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73"/>
            <p:cNvSpPr/>
            <p:nvPr/>
          </p:nvSpPr>
          <p:spPr>
            <a:xfrm>
              <a:off x="6805440" y="3983040"/>
              <a:ext cx="2088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74"/>
            <p:cNvSpPr/>
            <p:nvPr/>
          </p:nvSpPr>
          <p:spPr>
            <a:xfrm>
              <a:off x="8551800" y="5372280"/>
              <a:ext cx="81000" cy="1206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75"/>
            <p:cNvSpPr/>
            <p:nvPr/>
          </p:nvSpPr>
          <p:spPr>
            <a:xfrm>
              <a:off x="9032760" y="5262480"/>
              <a:ext cx="98640" cy="889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76"/>
            <p:cNvSpPr/>
            <p:nvPr/>
          </p:nvSpPr>
          <p:spPr>
            <a:xfrm>
              <a:off x="8699400" y="5207040"/>
              <a:ext cx="22320" cy="381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77"/>
            <p:cNvSpPr/>
            <p:nvPr/>
          </p:nvSpPr>
          <p:spPr>
            <a:xfrm>
              <a:off x="8683560" y="5157720"/>
              <a:ext cx="2880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78"/>
            <p:cNvSpPr/>
            <p:nvPr/>
          </p:nvSpPr>
          <p:spPr>
            <a:xfrm>
              <a:off x="8362800" y="4724280"/>
              <a:ext cx="38160" cy="60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79"/>
            <p:cNvSpPr/>
            <p:nvPr/>
          </p:nvSpPr>
          <p:spPr>
            <a:xfrm>
              <a:off x="8434440" y="4819680"/>
              <a:ext cx="41400" cy="60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80"/>
            <p:cNvSpPr/>
            <p:nvPr/>
          </p:nvSpPr>
          <p:spPr>
            <a:xfrm>
              <a:off x="8489880" y="4960800"/>
              <a:ext cx="46080" cy="493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81"/>
            <p:cNvSpPr/>
            <p:nvPr/>
          </p:nvSpPr>
          <p:spPr>
            <a:xfrm>
              <a:off x="8561520" y="4940280"/>
              <a:ext cx="46080" cy="460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82"/>
            <p:cNvSpPr/>
            <p:nvPr/>
          </p:nvSpPr>
          <p:spPr>
            <a:xfrm>
              <a:off x="8540640" y="4859280"/>
              <a:ext cx="4140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83"/>
            <p:cNvSpPr/>
            <p:nvPr/>
          </p:nvSpPr>
          <p:spPr>
            <a:xfrm>
              <a:off x="8486640" y="4802040"/>
              <a:ext cx="41400" cy="651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84"/>
            <p:cNvSpPr/>
            <p:nvPr/>
          </p:nvSpPr>
          <p:spPr>
            <a:xfrm>
              <a:off x="8420040" y="4767120"/>
              <a:ext cx="38160" cy="446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85"/>
            <p:cNvSpPr/>
            <p:nvPr/>
          </p:nvSpPr>
          <p:spPr>
            <a:xfrm>
              <a:off x="8502480" y="4886280"/>
              <a:ext cx="38160" cy="460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86"/>
            <p:cNvSpPr/>
            <p:nvPr/>
          </p:nvSpPr>
          <p:spPr>
            <a:xfrm>
              <a:off x="5141880" y="1822320"/>
              <a:ext cx="281160" cy="2286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7"/>
            <p:cNvSpPr/>
            <p:nvPr/>
          </p:nvSpPr>
          <p:spPr>
            <a:xfrm>
              <a:off x="5318280" y="2054160"/>
              <a:ext cx="71280" cy="144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8"/>
            <p:cNvSpPr/>
            <p:nvPr/>
          </p:nvSpPr>
          <p:spPr>
            <a:xfrm>
              <a:off x="5745240" y="1706400"/>
              <a:ext cx="74520" cy="493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9"/>
            <p:cNvSpPr/>
            <p:nvPr/>
          </p:nvSpPr>
          <p:spPr>
            <a:xfrm>
              <a:off x="5808600" y="1735200"/>
              <a:ext cx="921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0"/>
            <p:cNvSpPr/>
            <p:nvPr/>
          </p:nvSpPr>
          <p:spPr>
            <a:xfrm>
              <a:off x="5921280" y="1743120"/>
              <a:ext cx="92160" cy="586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91"/>
            <p:cNvSpPr/>
            <p:nvPr/>
          </p:nvSpPr>
          <p:spPr>
            <a:xfrm>
              <a:off x="6649920" y="1803240"/>
              <a:ext cx="171720" cy="5580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92"/>
            <p:cNvSpPr/>
            <p:nvPr/>
          </p:nvSpPr>
          <p:spPr>
            <a:xfrm>
              <a:off x="6837480" y="1800360"/>
              <a:ext cx="82440" cy="410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93"/>
            <p:cNvSpPr/>
            <p:nvPr/>
          </p:nvSpPr>
          <p:spPr>
            <a:xfrm>
              <a:off x="6792840" y="1865160"/>
              <a:ext cx="65160" cy="255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94"/>
            <p:cNvSpPr/>
            <p:nvPr/>
          </p:nvSpPr>
          <p:spPr>
            <a:xfrm>
              <a:off x="7319880" y="2363760"/>
              <a:ext cx="146160" cy="24120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95"/>
            <p:cNvSpPr/>
            <p:nvPr/>
          </p:nvSpPr>
          <p:spPr>
            <a:xfrm>
              <a:off x="7446960" y="2627280"/>
              <a:ext cx="101520" cy="16020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6"/>
            <p:cNvSpPr/>
            <p:nvPr/>
          </p:nvSpPr>
          <p:spPr>
            <a:xfrm>
              <a:off x="7372440" y="2805120"/>
              <a:ext cx="214200" cy="407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97"/>
            <p:cNvSpPr/>
            <p:nvPr/>
          </p:nvSpPr>
          <p:spPr>
            <a:xfrm>
              <a:off x="5157720" y="1682640"/>
              <a:ext cx="95400" cy="540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98"/>
            <p:cNvSpPr/>
            <p:nvPr/>
          </p:nvSpPr>
          <p:spPr>
            <a:xfrm>
              <a:off x="4933800" y="1701720"/>
              <a:ext cx="27000" cy="36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99"/>
            <p:cNvSpPr/>
            <p:nvPr/>
          </p:nvSpPr>
          <p:spPr>
            <a:xfrm>
              <a:off x="4984920" y="1700280"/>
              <a:ext cx="64800" cy="475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00"/>
            <p:cNvSpPr/>
            <p:nvPr/>
          </p:nvSpPr>
          <p:spPr>
            <a:xfrm>
              <a:off x="5111640" y="1681200"/>
              <a:ext cx="28800" cy="223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01"/>
            <p:cNvSpPr/>
            <p:nvPr/>
          </p:nvSpPr>
          <p:spPr>
            <a:xfrm>
              <a:off x="5073480" y="1720800"/>
              <a:ext cx="19080" cy="15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02"/>
            <p:cNvSpPr/>
            <p:nvPr/>
          </p:nvSpPr>
          <p:spPr>
            <a:xfrm>
              <a:off x="7453440" y="1755720"/>
              <a:ext cx="25200" cy="60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03"/>
            <p:cNvSpPr/>
            <p:nvPr/>
          </p:nvSpPr>
          <p:spPr>
            <a:xfrm>
              <a:off x="5608800" y="4991040"/>
              <a:ext cx="5220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04"/>
            <p:cNvSpPr/>
            <p:nvPr/>
          </p:nvSpPr>
          <p:spPr>
            <a:xfrm>
              <a:off x="5691240" y="497520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05"/>
            <p:cNvSpPr/>
            <p:nvPr/>
          </p:nvSpPr>
          <p:spPr>
            <a:xfrm>
              <a:off x="5551560" y="4633920"/>
              <a:ext cx="61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06"/>
            <p:cNvSpPr/>
            <p:nvPr/>
          </p:nvSpPr>
          <p:spPr>
            <a:xfrm>
              <a:off x="5676840" y="4471920"/>
              <a:ext cx="972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7"/>
            <p:cNvSpPr/>
            <p:nvPr/>
          </p:nvSpPr>
          <p:spPr>
            <a:xfrm>
              <a:off x="5626080" y="4468680"/>
              <a:ext cx="9720" cy="288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08"/>
            <p:cNvSpPr/>
            <p:nvPr/>
          </p:nvSpPr>
          <p:spPr>
            <a:xfrm>
              <a:off x="5603760" y="451800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09"/>
            <p:cNvSpPr/>
            <p:nvPr/>
          </p:nvSpPr>
          <p:spPr>
            <a:xfrm>
              <a:off x="5551560" y="4592520"/>
              <a:ext cx="6120" cy="208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10"/>
            <p:cNvSpPr/>
            <p:nvPr/>
          </p:nvSpPr>
          <p:spPr>
            <a:xfrm>
              <a:off x="5591160" y="456408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1"/>
            <p:cNvSpPr/>
            <p:nvPr/>
          </p:nvSpPr>
          <p:spPr>
            <a:xfrm>
              <a:off x="4060800" y="236232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12"/>
            <p:cNvSpPr/>
            <p:nvPr/>
          </p:nvSpPr>
          <p:spPr>
            <a:xfrm>
              <a:off x="3933720" y="228600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13"/>
            <p:cNvSpPr/>
            <p:nvPr/>
          </p:nvSpPr>
          <p:spPr>
            <a:xfrm>
              <a:off x="3436920" y="1803240"/>
              <a:ext cx="4286160" cy="36514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6"/>
          <p:cNvSpPr/>
          <p:nvPr/>
        </p:nvSpPr>
        <p:spPr>
          <a:xfrm rot="5400000">
            <a:off x="24084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17"/>
          <p:cNvSpPr/>
          <p:nvPr/>
        </p:nvSpPr>
        <p:spPr>
          <a:xfrm rot="5400000">
            <a:off x="54576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18"/>
          <p:cNvSpPr/>
          <p:nvPr/>
        </p:nvSpPr>
        <p:spPr>
          <a:xfrm rot="5400000">
            <a:off x="85032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743040" y="5499000"/>
            <a:ext cx="390600" cy="839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152280" y="1066680"/>
            <a:ext cx="8979120" cy="4711680"/>
            <a:chOff x="152280" y="1066680"/>
            <a:chExt cx="8979120" cy="4711680"/>
          </a:xfrm>
        </p:grpSpPr>
        <p:sp>
          <p:nvSpPr>
            <p:cNvPr id="156" name="Freeform 3"/>
            <p:cNvSpPr/>
            <p:nvPr/>
          </p:nvSpPr>
          <p:spPr>
            <a:xfrm>
              <a:off x="317520" y="1276200"/>
              <a:ext cx="2631960" cy="430704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4"/>
            <p:cNvSpPr/>
            <p:nvPr/>
          </p:nvSpPr>
          <p:spPr>
            <a:xfrm>
              <a:off x="233280" y="1689120"/>
              <a:ext cx="58680" cy="493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5"/>
            <p:cNvSpPr/>
            <p:nvPr/>
          </p:nvSpPr>
          <p:spPr>
            <a:xfrm>
              <a:off x="874800" y="1962000"/>
              <a:ext cx="68040" cy="590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2506680" y="2087640"/>
              <a:ext cx="192240" cy="152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7"/>
            <p:cNvSpPr/>
            <p:nvPr/>
          </p:nvSpPr>
          <p:spPr>
            <a:xfrm>
              <a:off x="1517760" y="2943360"/>
              <a:ext cx="317520" cy="1746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1789200" y="3086280"/>
              <a:ext cx="193680" cy="777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2006640" y="314316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2124000" y="3149640"/>
              <a:ext cx="12600" cy="428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1743120" y="1265400"/>
              <a:ext cx="363600" cy="1825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1909800" y="1173240"/>
              <a:ext cx="291960" cy="1206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2336760" y="1330200"/>
              <a:ext cx="473040" cy="4111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2333520" y="1146240"/>
              <a:ext cx="79560" cy="698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2157480" y="1303200"/>
              <a:ext cx="122040" cy="810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6"/>
            <p:cNvSpPr/>
            <p:nvPr/>
          </p:nvSpPr>
          <p:spPr>
            <a:xfrm>
              <a:off x="2300400" y="1320840"/>
              <a:ext cx="100080" cy="4284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7"/>
            <p:cNvSpPr/>
            <p:nvPr/>
          </p:nvSpPr>
          <p:spPr>
            <a:xfrm>
              <a:off x="2239920" y="1239840"/>
              <a:ext cx="120600" cy="63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8"/>
            <p:cNvSpPr/>
            <p:nvPr/>
          </p:nvSpPr>
          <p:spPr>
            <a:xfrm>
              <a:off x="2182680" y="1168560"/>
              <a:ext cx="79560" cy="410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9"/>
            <p:cNvSpPr/>
            <p:nvPr/>
          </p:nvSpPr>
          <p:spPr>
            <a:xfrm>
              <a:off x="2421000" y="1176480"/>
              <a:ext cx="225360" cy="1587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0"/>
            <p:cNvSpPr/>
            <p:nvPr/>
          </p:nvSpPr>
          <p:spPr>
            <a:xfrm>
              <a:off x="152280" y="1722600"/>
              <a:ext cx="39960" cy="20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21"/>
            <p:cNvSpPr/>
            <p:nvPr/>
          </p:nvSpPr>
          <p:spPr>
            <a:xfrm>
              <a:off x="1731960" y="2860560"/>
              <a:ext cx="2052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22"/>
            <p:cNvSpPr/>
            <p:nvPr/>
          </p:nvSpPr>
          <p:spPr>
            <a:xfrm>
              <a:off x="1738440" y="2916360"/>
              <a:ext cx="20520" cy="14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2163600" y="3211560"/>
              <a:ext cx="190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2422440" y="213192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2214720" y="167472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2349360" y="127620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2481120" y="1515960"/>
              <a:ext cx="6696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8"/>
            <p:cNvSpPr/>
            <p:nvPr/>
          </p:nvSpPr>
          <p:spPr>
            <a:xfrm>
              <a:off x="2514600" y="1066680"/>
              <a:ext cx="1440000" cy="758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2959200" y="1476360"/>
              <a:ext cx="68040" cy="414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3549600" y="1623960"/>
              <a:ext cx="254160" cy="108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3760920" y="1260360"/>
              <a:ext cx="68040" cy="414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32"/>
            <p:cNvSpPr/>
            <p:nvPr/>
          </p:nvSpPr>
          <p:spPr>
            <a:xfrm>
              <a:off x="4322880" y="1189080"/>
              <a:ext cx="309600" cy="127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3"/>
            <p:cNvSpPr/>
            <p:nvPr/>
          </p:nvSpPr>
          <p:spPr>
            <a:xfrm>
              <a:off x="4524480" y="1262160"/>
              <a:ext cx="87120" cy="331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>
              <a:off x="3914640" y="1868400"/>
              <a:ext cx="214560" cy="28116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5"/>
            <p:cNvSpPr/>
            <p:nvPr/>
          </p:nvSpPr>
          <p:spPr>
            <a:xfrm>
              <a:off x="3801960" y="1976400"/>
              <a:ext cx="130320" cy="1382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6"/>
            <p:cNvSpPr/>
            <p:nvPr/>
          </p:nvSpPr>
          <p:spPr>
            <a:xfrm>
              <a:off x="7321680" y="4522680"/>
              <a:ext cx="976320" cy="109080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7"/>
            <p:cNvSpPr/>
            <p:nvPr/>
          </p:nvSpPr>
          <p:spPr>
            <a:xfrm>
              <a:off x="7629480" y="3941640"/>
              <a:ext cx="652680" cy="4557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8"/>
            <p:cNvSpPr/>
            <p:nvPr/>
          </p:nvSpPr>
          <p:spPr>
            <a:xfrm>
              <a:off x="7647120" y="3948120"/>
              <a:ext cx="636480" cy="4572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9"/>
            <p:cNvSpPr/>
            <p:nvPr/>
          </p:nvSpPr>
          <p:spPr>
            <a:xfrm>
              <a:off x="8128080" y="5662440"/>
              <a:ext cx="81000" cy="11592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40"/>
            <p:cNvSpPr/>
            <p:nvPr/>
          </p:nvSpPr>
          <p:spPr>
            <a:xfrm>
              <a:off x="8410680" y="5462640"/>
              <a:ext cx="330120" cy="1760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41"/>
            <p:cNvSpPr/>
            <p:nvPr/>
          </p:nvSpPr>
          <p:spPr>
            <a:xfrm>
              <a:off x="8766000" y="5351400"/>
              <a:ext cx="204840" cy="19224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42"/>
            <p:cNvSpPr/>
            <p:nvPr/>
          </p:nvSpPr>
          <p:spPr>
            <a:xfrm>
              <a:off x="8880480" y="5259240"/>
              <a:ext cx="65160" cy="460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3"/>
            <p:cNvSpPr/>
            <p:nvPr/>
          </p:nvSpPr>
          <p:spPr>
            <a:xfrm>
              <a:off x="5284800" y="4176720"/>
              <a:ext cx="243000" cy="43488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4"/>
            <p:cNvSpPr/>
            <p:nvPr/>
          </p:nvSpPr>
          <p:spPr>
            <a:xfrm>
              <a:off x="6394320" y="3479760"/>
              <a:ext cx="88920" cy="12240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5"/>
            <p:cNvSpPr/>
            <p:nvPr/>
          </p:nvSpPr>
          <p:spPr>
            <a:xfrm>
              <a:off x="7089840" y="3627360"/>
              <a:ext cx="218880" cy="3952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6"/>
            <p:cNvSpPr/>
            <p:nvPr/>
          </p:nvSpPr>
          <p:spPr>
            <a:xfrm>
              <a:off x="6892920" y="3500280"/>
              <a:ext cx="138240" cy="29232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6996240" y="3746520"/>
              <a:ext cx="69840" cy="2793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8"/>
            <p:cNvSpPr/>
            <p:nvPr/>
          </p:nvSpPr>
          <p:spPr>
            <a:xfrm>
              <a:off x="7089840" y="4052880"/>
              <a:ext cx="122040" cy="108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7307280" y="3840120"/>
              <a:ext cx="1602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7248600" y="2906640"/>
              <a:ext cx="33120" cy="1461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7277040" y="3173400"/>
              <a:ext cx="114480" cy="24912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52"/>
            <p:cNvSpPr/>
            <p:nvPr/>
          </p:nvSpPr>
          <p:spPr>
            <a:xfrm>
              <a:off x="7367760" y="3519360"/>
              <a:ext cx="120600" cy="1638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3"/>
            <p:cNvSpPr/>
            <p:nvPr/>
          </p:nvSpPr>
          <p:spPr>
            <a:xfrm>
              <a:off x="7526160" y="3833640"/>
              <a:ext cx="47880" cy="9684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4"/>
            <p:cNvSpPr/>
            <p:nvPr/>
          </p:nvSpPr>
          <p:spPr>
            <a:xfrm>
              <a:off x="7493040" y="4017960"/>
              <a:ext cx="2376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5"/>
            <p:cNvSpPr/>
            <p:nvPr/>
          </p:nvSpPr>
          <p:spPr>
            <a:xfrm>
              <a:off x="7548480" y="3994200"/>
              <a:ext cx="81000" cy="698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6"/>
            <p:cNvSpPr/>
            <p:nvPr/>
          </p:nvSpPr>
          <p:spPr>
            <a:xfrm>
              <a:off x="7693200" y="4151160"/>
              <a:ext cx="37800" cy="60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7"/>
            <p:cNvSpPr/>
            <p:nvPr/>
          </p:nvSpPr>
          <p:spPr>
            <a:xfrm>
              <a:off x="8250120" y="4057560"/>
              <a:ext cx="82800" cy="921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8"/>
            <p:cNvSpPr/>
            <p:nvPr/>
          </p:nvSpPr>
          <p:spPr>
            <a:xfrm>
              <a:off x="7421400" y="4187880"/>
              <a:ext cx="82800" cy="98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9"/>
            <p:cNvSpPr/>
            <p:nvPr/>
          </p:nvSpPr>
          <p:spPr>
            <a:xfrm>
              <a:off x="7319880" y="4230720"/>
              <a:ext cx="54000" cy="4752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60"/>
            <p:cNvSpPr/>
            <p:nvPr/>
          </p:nvSpPr>
          <p:spPr>
            <a:xfrm>
              <a:off x="7275600" y="4165560"/>
              <a:ext cx="38160" cy="5724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61"/>
            <p:cNvSpPr/>
            <p:nvPr/>
          </p:nvSpPr>
          <p:spPr>
            <a:xfrm>
              <a:off x="7346880" y="4192560"/>
              <a:ext cx="58680" cy="414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62"/>
            <p:cNvSpPr/>
            <p:nvPr/>
          </p:nvSpPr>
          <p:spPr>
            <a:xfrm>
              <a:off x="7243920" y="3452760"/>
              <a:ext cx="42840" cy="109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3"/>
            <p:cNvSpPr/>
            <p:nvPr/>
          </p:nvSpPr>
          <p:spPr>
            <a:xfrm>
              <a:off x="7350120" y="3430440"/>
              <a:ext cx="27000" cy="1098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4"/>
            <p:cNvSpPr/>
            <p:nvPr/>
          </p:nvSpPr>
          <p:spPr>
            <a:xfrm>
              <a:off x="7396200" y="3392640"/>
              <a:ext cx="7920" cy="4284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5"/>
            <p:cNvSpPr/>
            <p:nvPr/>
          </p:nvSpPr>
          <p:spPr>
            <a:xfrm>
              <a:off x="7416720" y="3419640"/>
              <a:ext cx="31680" cy="9360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6"/>
            <p:cNvSpPr/>
            <p:nvPr/>
          </p:nvSpPr>
          <p:spPr>
            <a:xfrm>
              <a:off x="6856560" y="3573360"/>
              <a:ext cx="12600" cy="478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7"/>
            <p:cNvSpPr/>
            <p:nvPr/>
          </p:nvSpPr>
          <p:spPr>
            <a:xfrm>
              <a:off x="6835680" y="3522600"/>
              <a:ext cx="7920" cy="208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8"/>
            <p:cNvSpPr/>
            <p:nvPr/>
          </p:nvSpPr>
          <p:spPr>
            <a:xfrm>
              <a:off x="6826320" y="3483000"/>
              <a:ext cx="12600" cy="172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9"/>
            <p:cNvSpPr/>
            <p:nvPr/>
          </p:nvSpPr>
          <p:spPr>
            <a:xfrm>
              <a:off x="6802560" y="3392640"/>
              <a:ext cx="1116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70"/>
            <p:cNvSpPr/>
            <p:nvPr/>
          </p:nvSpPr>
          <p:spPr>
            <a:xfrm>
              <a:off x="6805440" y="3448080"/>
              <a:ext cx="2088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1"/>
            <p:cNvSpPr/>
            <p:nvPr/>
          </p:nvSpPr>
          <p:spPr>
            <a:xfrm>
              <a:off x="8551800" y="4838760"/>
              <a:ext cx="81000" cy="1206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72"/>
            <p:cNvSpPr/>
            <p:nvPr/>
          </p:nvSpPr>
          <p:spPr>
            <a:xfrm>
              <a:off x="9032760" y="4729320"/>
              <a:ext cx="98640" cy="889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3"/>
            <p:cNvSpPr/>
            <p:nvPr/>
          </p:nvSpPr>
          <p:spPr>
            <a:xfrm>
              <a:off x="8699400" y="4673520"/>
              <a:ext cx="22320" cy="381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4"/>
            <p:cNvSpPr/>
            <p:nvPr/>
          </p:nvSpPr>
          <p:spPr>
            <a:xfrm>
              <a:off x="8683560" y="4624560"/>
              <a:ext cx="28800" cy="252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5"/>
            <p:cNvSpPr/>
            <p:nvPr/>
          </p:nvSpPr>
          <p:spPr>
            <a:xfrm>
              <a:off x="8362800" y="4192560"/>
              <a:ext cx="38160" cy="60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6"/>
            <p:cNvSpPr/>
            <p:nvPr/>
          </p:nvSpPr>
          <p:spPr>
            <a:xfrm>
              <a:off x="8434440" y="4286160"/>
              <a:ext cx="41400" cy="604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7"/>
            <p:cNvSpPr/>
            <p:nvPr/>
          </p:nvSpPr>
          <p:spPr>
            <a:xfrm>
              <a:off x="8489880" y="4429080"/>
              <a:ext cx="46080" cy="493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8"/>
            <p:cNvSpPr/>
            <p:nvPr/>
          </p:nvSpPr>
          <p:spPr>
            <a:xfrm>
              <a:off x="8561520" y="4405320"/>
              <a:ext cx="46080" cy="460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9"/>
            <p:cNvSpPr/>
            <p:nvPr/>
          </p:nvSpPr>
          <p:spPr>
            <a:xfrm>
              <a:off x="8540640" y="4324320"/>
              <a:ext cx="4140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80"/>
            <p:cNvSpPr/>
            <p:nvPr/>
          </p:nvSpPr>
          <p:spPr>
            <a:xfrm>
              <a:off x="8486640" y="4270320"/>
              <a:ext cx="41400" cy="651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81"/>
            <p:cNvSpPr/>
            <p:nvPr/>
          </p:nvSpPr>
          <p:spPr>
            <a:xfrm>
              <a:off x="8420040" y="4235400"/>
              <a:ext cx="38160" cy="446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82"/>
            <p:cNvSpPr/>
            <p:nvPr/>
          </p:nvSpPr>
          <p:spPr>
            <a:xfrm>
              <a:off x="8502480" y="4351320"/>
              <a:ext cx="38160" cy="460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3"/>
            <p:cNvSpPr/>
            <p:nvPr/>
          </p:nvSpPr>
          <p:spPr>
            <a:xfrm>
              <a:off x="5141880" y="1289160"/>
              <a:ext cx="281160" cy="2286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4"/>
            <p:cNvSpPr/>
            <p:nvPr/>
          </p:nvSpPr>
          <p:spPr>
            <a:xfrm>
              <a:off x="5318280" y="1521000"/>
              <a:ext cx="71280" cy="14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5"/>
            <p:cNvSpPr/>
            <p:nvPr/>
          </p:nvSpPr>
          <p:spPr>
            <a:xfrm>
              <a:off x="5745240" y="1173240"/>
              <a:ext cx="74520" cy="4896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6"/>
            <p:cNvSpPr/>
            <p:nvPr/>
          </p:nvSpPr>
          <p:spPr>
            <a:xfrm>
              <a:off x="5808600" y="1201680"/>
              <a:ext cx="921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7"/>
            <p:cNvSpPr/>
            <p:nvPr/>
          </p:nvSpPr>
          <p:spPr>
            <a:xfrm>
              <a:off x="5921280" y="1209600"/>
              <a:ext cx="92160" cy="586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8"/>
            <p:cNvSpPr/>
            <p:nvPr/>
          </p:nvSpPr>
          <p:spPr>
            <a:xfrm>
              <a:off x="6649920" y="1270080"/>
              <a:ext cx="171720" cy="5544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89"/>
            <p:cNvSpPr/>
            <p:nvPr/>
          </p:nvSpPr>
          <p:spPr>
            <a:xfrm>
              <a:off x="6837480" y="1266840"/>
              <a:ext cx="82440" cy="414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90"/>
            <p:cNvSpPr/>
            <p:nvPr/>
          </p:nvSpPr>
          <p:spPr>
            <a:xfrm>
              <a:off x="6792840" y="1332000"/>
              <a:ext cx="65160" cy="252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1"/>
            <p:cNvSpPr/>
            <p:nvPr/>
          </p:nvSpPr>
          <p:spPr>
            <a:xfrm>
              <a:off x="7319880" y="1830240"/>
              <a:ext cx="146160" cy="241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92"/>
            <p:cNvSpPr/>
            <p:nvPr/>
          </p:nvSpPr>
          <p:spPr>
            <a:xfrm>
              <a:off x="7446960" y="2093760"/>
              <a:ext cx="101520" cy="16056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93"/>
            <p:cNvSpPr/>
            <p:nvPr/>
          </p:nvSpPr>
          <p:spPr>
            <a:xfrm>
              <a:off x="7372440" y="2271600"/>
              <a:ext cx="214200" cy="4082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94"/>
            <p:cNvSpPr/>
            <p:nvPr/>
          </p:nvSpPr>
          <p:spPr>
            <a:xfrm>
              <a:off x="5157720" y="1149480"/>
              <a:ext cx="95400" cy="540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95"/>
            <p:cNvSpPr/>
            <p:nvPr/>
          </p:nvSpPr>
          <p:spPr>
            <a:xfrm>
              <a:off x="4933800" y="1168560"/>
              <a:ext cx="27000" cy="363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96"/>
            <p:cNvSpPr/>
            <p:nvPr/>
          </p:nvSpPr>
          <p:spPr>
            <a:xfrm>
              <a:off x="4984920" y="1166760"/>
              <a:ext cx="64800" cy="475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7"/>
            <p:cNvSpPr/>
            <p:nvPr/>
          </p:nvSpPr>
          <p:spPr>
            <a:xfrm>
              <a:off x="5111640" y="1146240"/>
              <a:ext cx="28800" cy="223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98"/>
            <p:cNvSpPr/>
            <p:nvPr/>
          </p:nvSpPr>
          <p:spPr>
            <a:xfrm>
              <a:off x="5073480" y="1187280"/>
              <a:ext cx="19080" cy="162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99"/>
            <p:cNvSpPr/>
            <p:nvPr/>
          </p:nvSpPr>
          <p:spPr>
            <a:xfrm>
              <a:off x="7453440" y="1222200"/>
              <a:ext cx="25200" cy="60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0"/>
            <p:cNvSpPr/>
            <p:nvPr/>
          </p:nvSpPr>
          <p:spPr>
            <a:xfrm>
              <a:off x="5608800" y="4459320"/>
              <a:ext cx="5220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01"/>
            <p:cNvSpPr/>
            <p:nvPr/>
          </p:nvSpPr>
          <p:spPr>
            <a:xfrm>
              <a:off x="5691240" y="444348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02"/>
            <p:cNvSpPr/>
            <p:nvPr/>
          </p:nvSpPr>
          <p:spPr>
            <a:xfrm>
              <a:off x="5551560" y="4098960"/>
              <a:ext cx="61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03"/>
            <p:cNvSpPr/>
            <p:nvPr/>
          </p:nvSpPr>
          <p:spPr>
            <a:xfrm>
              <a:off x="5676840" y="3936960"/>
              <a:ext cx="972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04"/>
            <p:cNvSpPr/>
            <p:nvPr/>
          </p:nvSpPr>
          <p:spPr>
            <a:xfrm>
              <a:off x="5626080" y="3936960"/>
              <a:ext cx="972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05"/>
            <p:cNvSpPr/>
            <p:nvPr/>
          </p:nvSpPr>
          <p:spPr>
            <a:xfrm>
              <a:off x="5603760" y="398304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06"/>
            <p:cNvSpPr/>
            <p:nvPr/>
          </p:nvSpPr>
          <p:spPr>
            <a:xfrm>
              <a:off x="5551560" y="4060800"/>
              <a:ext cx="61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07"/>
            <p:cNvSpPr/>
            <p:nvPr/>
          </p:nvSpPr>
          <p:spPr>
            <a:xfrm>
              <a:off x="5591160" y="4030560"/>
              <a:ext cx="7920" cy="208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08"/>
            <p:cNvSpPr/>
            <p:nvPr/>
          </p:nvSpPr>
          <p:spPr>
            <a:xfrm>
              <a:off x="4060800" y="182880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09"/>
            <p:cNvSpPr/>
            <p:nvPr/>
          </p:nvSpPr>
          <p:spPr>
            <a:xfrm>
              <a:off x="3933720" y="1752480"/>
              <a:ext cx="7920" cy="208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10"/>
            <p:cNvSpPr/>
            <p:nvPr/>
          </p:nvSpPr>
          <p:spPr>
            <a:xfrm>
              <a:off x="3436920" y="1270080"/>
              <a:ext cx="4286160" cy="3651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4" name="Picture 111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1090440" cy="109224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2"/>
          <p:cNvSpPr/>
          <p:nvPr/>
        </p:nvSpPr>
        <p:spPr>
          <a:xfrm rot="5400000">
            <a:off x="54576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13"/>
          <p:cNvSpPr/>
          <p:nvPr/>
        </p:nvSpPr>
        <p:spPr>
          <a:xfrm rot="5400000">
            <a:off x="85032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14"/>
          <p:cNvSpPr/>
          <p:nvPr/>
        </p:nvSpPr>
        <p:spPr>
          <a:xfrm rot="5400000">
            <a:off x="115524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598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4"/>
          </p:nvPr>
        </p:nvSpPr>
        <p:spPr>
          <a:xfrm>
            <a:off x="152280" y="624816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EF8B73-CF5B-41EB-BC45-4990F94708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9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390600" cy="1068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0" descr=""/>
          <p:cNvPicPr/>
          <p:nvPr/>
        </p:nvPicPr>
        <p:blipFill>
          <a:blip r:embed="rId5"/>
          <a:stretch/>
        </p:blipFill>
        <p:spPr>
          <a:xfrm>
            <a:off x="685800" y="601992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598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ниципальное бюджетное общеобразовательное учреждение «Северский лицей»</a:t>
            </a:r>
            <a:br>
              <a:rPr sz="2000"/>
            </a:br>
            <a:br>
              <a:rPr sz="20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утешествие по                 Санкт-Петербургу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 три дня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вриленко Мария 8 А класс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кова Диана 8 А класс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900000" y="360360"/>
            <a:ext cx="7920000" cy="61196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Храм Спасс-на-кров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539640" y="668160"/>
            <a:ext cx="8280360" cy="5811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099640" cy="575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"/>
          <p:cNvPicPr/>
          <p:nvPr/>
        </p:nvPicPr>
        <p:blipFill>
          <a:blip r:embed="rId1"/>
          <a:stretch/>
        </p:blipFill>
        <p:spPr>
          <a:xfrm>
            <a:off x="852480" y="343080"/>
            <a:ext cx="7967520" cy="61369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Цветок жизн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099280" cy="6300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Аллея дружб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539640" y="343080"/>
            <a:ext cx="8099640" cy="59562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457200" y="128520"/>
            <a:ext cx="8220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невник Тани Савечев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"/>
          <p:cNvPicPr/>
          <p:nvPr/>
        </p:nvPicPr>
        <p:blipFill>
          <a:blip r:embed="rId1"/>
          <a:stretch/>
        </p:blipFill>
        <p:spPr>
          <a:xfrm>
            <a:off x="776160" y="360360"/>
            <a:ext cx="7863120" cy="61196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емориал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Разорванное кольцо»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880920" y="344520"/>
            <a:ext cx="7758360" cy="595476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ариинский театр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0996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" descr=""/>
          <p:cNvPicPr/>
          <p:nvPr/>
        </p:nvPicPr>
        <p:blipFill>
          <a:blip r:embed="rId1"/>
          <a:stretch/>
        </p:blipFill>
        <p:spPr>
          <a:xfrm>
            <a:off x="744480" y="360360"/>
            <a:ext cx="78962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457200" y="3962520"/>
            <a:ext cx="822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468360" y="196920"/>
            <a:ext cx="6551640" cy="4664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4319640" y="3419640"/>
            <a:ext cx="467208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836640" y="179280"/>
            <a:ext cx="7983360" cy="63007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имний дворец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660240" y="390600"/>
            <a:ext cx="7980480" cy="6089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20720" y="426960"/>
            <a:ext cx="7920000" cy="60530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547560" y="434880"/>
            <a:ext cx="8272440" cy="60436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82640" y="344520"/>
            <a:ext cx="8037360" cy="61354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Эрмитаж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099640" cy="59403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" descr=""/>
          <p:cNvPicPr/>
          <p:nvPr/>
        </p:nvPicPr>
        <p:blipFill>
          <a:blip r:embed="rId1"/>
          <a:stretch/>
        </p:blipFill>
        <p:spPr>
          <a:xfrm>
            <a:off x="1979640" y="360360"/>
            <a:ext cx="575928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2182680" y="236520"/>
            <a:ext cx="4762800" cy="63500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187280" y="523800"/>
            <a:ext cx="3600720" cy="2121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5076720" y="501480"/>
            <a:ext cx="2951280" cy="2143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1163520" y="3068640"/>
            <a:ext cx="3624480" cy="2259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5076720" y="3068640"/>
            <a:ext cx="3024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2d2db9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920" y="1599840"/>
            <a:ext cx="76312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ская раб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графии и впечатления с поездки в г. Санкт-Петербур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ресурс «Википед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"/>
          <p:cNvPicPr/>
          <p:nvPr/>
        </p:nvPicPr>
        <p:blipFill>
          <a:blip r:embed="rId1"/>
          <a:stretch/>
        </p:blipFill>
        <p:spPr>
          <a:xfrm>
            <a:off x="900000" y="360360"/>
            <a:ext cx="7920000" cy="61196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Ладожский вокза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7920000" cy="63007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1079640" y="766800"/>
            <a:ext cx="1769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етропавловская крепост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453960" y="179280"/>
            <a:ext cx="8366040" cy="63007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"/>
          <p:cNvSpPr/>
          <p:nvPr/>
        </p:nvSpPr>
        <p:spPr>
          <a:xfrm>
            <a:off x="457200" y="128520"/>
            <a:ext cx="8220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Государственный русский муз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20720" y="343080"/>
            <a:ext cx="8099280" cy="61369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азанский собор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782640" y="179280"/>
            <a:ext cx="8037360" cy="63007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едный всадник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" descr=""/>
          <p:cNvPicPr/>
          <p:nvPr/>
        </p:nvPicPr>
        <p:blipFill>
          <a:blip r:embed="rId1"/>
          <a:stretch/>
        </p:blipFill>
        <p:spPr>
          <a:xfrm>
            <a:off x="817560" y="343080"/>
            <a:ext cx="8002440" cy="6136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Исаакиевский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обор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099280" cy="558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Вера Васильевна</cp:lastModifiedBy>
  <dcterms:modified xsi:type="dcterms:W3CDTF">2015-11-06T04:39:06Z</dcterms:modified>
  <cp:revision>10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